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D38-9CC5-4718-992A-E9BD6BD4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BB8-B41E-4B51-9848-BE4BE61F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768-BF0C-4AB3-A009-A6414E2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3C8-EE08-41E2-B3DD-6425FAAF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322-555D-48C5-AD69-33EC024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ABD-97E1-4219-A156-F385F32C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BF3-C8EE-461B-AA41-2E5C093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210-A287-4323-8538-73477404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059-1448-4D44-923E-2B4445D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5BA-A57E-4B94-B6D2-4B88453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E61-668E-4097-83D7-70BCEAF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6E9-F53D-422C-8C6D-C2FAE72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1B2B-079F-4FB8-9671-45C883A76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20" y="1707840"/>
            <a:ext cx="897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4</a:t>
            </a: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мир, прощение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що търсим във све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звират в изобил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у Господа Хрис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360" y="2001600"/>
            <a:ext cx="766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За всяко престъпл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е всякога готов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със пълно опрощение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и милост, и люб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1800" y="2041560"/>
            <a:ext cx="866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омага Той с небесна м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през бури и вълни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кога се борим в тъмна нощ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рага да победи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75440" y="1037520"/>
            <a:ext cx="7594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и радост, този ми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Небесен пир и светост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О, потърси и сам вк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Таз радост, този ми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Bookman Old Style"/>
              </a:rPr>
              <a:t>във Госпо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35:18Z</dcterms:created>
  <dc:creator>TrifonTrifonow</dc:creator>
  <dc:description/>
  <dc:language>en-US</dc:language>
  <cp:lastModifiedBy>TrifonTrifonow</cp:lastModifiedBy>
  <dcterms:modified xsi:type="dcterms:W3CDTF">2005-11-22T06:49:54Z</dcterms:modified>
  <cp:revision>6</cp:revision>
  <dc:subject/>
  <dc:title>Slide 1</dc:title>
</cp:coreProperties>
</file>